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6256-243F-46C7-A1B0-B6E09B75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DABF-9B6B-4DAF-8CC4-0565EF58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2BEF-E38A-4432-8AA6-BD5AC633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CA1B-E5C4-4262-9A47-0B5CF3AE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350E-EE76-4F06-BDA9-20B391DC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7C9E-226F-443A-A82C-3847357B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FBB5-DD95-415F-8CE8-21AD3EEE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33BD-AEAB-4006-B709-79EC0907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AAB1-91CA-4524-A642-78A196E5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A26B-16B7-4C9E-9F1E-FC74C4A0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8F4-965D-415A-AAE5-3980803D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686C-EA71-42B5-B0FF-B20B7EFA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CF07-1185-4979-BF16-EB3A92D40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ts from Task Force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, 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11-1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472572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72608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33720" y="152280"/>
            <a:ext cx="472572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72608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472608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72608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72608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72608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72608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72608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0" r="9000" b="0"/>
          <a:stretch/>
        </p:blipFill>
        <p:spPr>
          <a:xfrm>
            <a:off x="990720" y="2362320"/>
            <a:ext cx="3674880" cy="3028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2572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472608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472608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653000" cy="62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472572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472572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72608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20:03:25Z</dcterms:created>
  <dc:creator>Cory</dc:creator>
  <dc:description/>
  <dc:language>en-US</dc:language>
  <cp:lastModifiedBy>Cory</cp:lastModifiedBy>
  <dcterms:modified xsi:type="dcterms:W3CDTF">2010-06-08T16:15:48Z</dcterms:modified>
  <cp:revision>3</cp:revision>
  <dc:subject/>
  <dc:title>Charts from Task Force Meeting</dc:title>
</cp:coreProperties>
</file>